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C91-D5EB-4116-A73C-ABF284C7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C4E-2ECA-445B-8E84-D7B79D2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871-8434-4AB2-B754-87E750DC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16D-BD01-4AED-BCE1-03B7E9A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68F-E5DA-4416-B3BA-9966F3BB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D8B-D588-4F1F-8625-B8D186EE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BE3-6765-4670-972F-5592E499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779-8E09-4041-AABB-D2AB84F5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94A-1329-4A8A-B2E0-32917E17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DCC-6AE4-4EB1-BEA1-81D60B1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24E-7661-43AB-9942-D06CA74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FE2-0099-43D7-8A97-3A5432B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08E-0CC0-40BB-B008-EC6EDC77A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SAVE THE TES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e father of all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114264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of these </a:t>
            </a:r>
            <a:r>
              <a:rPr b="1" lang="en-US" sz="6000" spc="-1" strike="noStrike">
                <a:solidFill>
                  <a:srgbClr val="3333cc"/>
                </a:solidFill>
                <a:latin typeface="Highlight LET"/>
              </a:rPr>
              <a:t>fantasti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nds are loc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the groin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very father, or potential fath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589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876920" y="4495680"/>
            <a:ext cx="3504960" cy="2133720"/>
            <a:chOff x="4876920" y="4495680"/>
            <a:chExt cx="3504960" cy="2133720"/>
          </a:xfrm>
        </p:grpSpPr>
        <p:sp>
          <p:nvSpPr>
            <p:cNvPr id="48" name=""/>
            <p:cNvSpPr/>
            <p:nvPr/>
          </p:nvSpPr>
          <p:spPr>
            <a:xfrm>
              <a:off x="4876920" y="4495680"/>
              <a:ext cx="3504960" cy="21337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934320" y="4572000"/>
              <a:ext cx="140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29200" y="4800600"/>
              <a:ext cx="1905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testes will mean no more cute happy kid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09480" y="2438280"/>
            <a:ext cx="137160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mones Produ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stosteron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rm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3400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H and LH produced by the pituitary start testosteron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enough testosterone reaches the pituitary, it stops producing FSH and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2340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0849200">
            <a:off x="5625360" y="1141200"/>
            <a:ext cx="685800" cy="3047760"/>
          </a:xfrm>
          <a:custGeom>
            <a:avLst/>
            <a:gdLst>
              <a:gd name="textAreaLeft" fmla="*/ 91800 w 685800"/>
              <a:gd name="textAreaRight" fmla="*/ 594000 w 68580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3047988"/>
                <a:lnTo>
                  <a:pt x="15671" y="21310"/>
                </a:lnTo>
                <a:lnTo>
                  <a:pt x="21600" y="17280"/>
                </a:lnTo>
                <a:lnTo>
                  <a:pt x="15671" y="12670"/>
                </a:lnTo>
                <a:lnTo>
                  <a:pt x="15671" y="14830"/>
                </a:lnTo>
                <a:arcTo wR="21600" hR="7560" stAng="7752012" swAng="269055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get Cells Have Recep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ells with the appropriate receptor molecules will respond to testoste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osterone then activates certain genes insid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52005" t="0" r="0" b="0"/>
          <a:stretch/>
        </p:blipFill>
        <p:spPr>
          <a:xfrm>
            <a:off x="5029200" y="457200"/>
            <a:ext cx="3852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t should st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estes = No testosterone or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76920" y="2743200"/>
            <a:ext cx="4038480" cy="2770920"/>
            <a:chOff x="4876920" y="2743200"/>
            <a:chExt cx="4038480" cy="2770920"/>
          </a:xfrm>
        </p:grpSpPr>
        <p:sp>
          <p:nvSpPr>
            <p:cNvPr id="65" name=""/>
            <p:cNvSpPr/>
            <p:nvPr/>
          </p:nvSpPr>
          <p:spPr>
            <a:xfrm>
              <a:off x="5486400" y="2743200"/>
              <a:ext cx="1143000" cy="1447920"/>
            </a:xfrm>
            <a:prstGeom prst="downArrow">
              <a:avLst>
                <a:gd name="adj1" fmla="val 50000"/>
                <a:gd name="adj2" fmla="val 316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4191120"/>
              <a:ext cx="4038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 manly featu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 more childr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2209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3:25:49Z</dcterms:created>
  <dc:creator>dthomas</dc:creator>
  <dc:description/>
  <dc:language>en-US</dc:language>
  <cp:lastModifiedBy>FCSD</cp:lastModifiedBy>
  <dcterms:modified xsi:type="dcterms:W3CDTF">2008-05-13T13:32:30Z</dcterms:modified>
  <cp:revision>14</cp:revision>
  <dc:subject/>
  <dc:title>SAVE THE TESTES</dc:title>
</cp:coreProperties>
</file>